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5E2-18F0-44A7-AFDB-9F0F990A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BF1-288D-418C-8AC6-AB3DEA87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E2CE-F5A8-4397-AE07-CC05E790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350-44BB-496A-A8DA-DAB5E2CE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FB9-B37B-4A9A-90FB-AB194D62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BAB-3672-45A0-AB3A-7614C40B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28C-AAD4-44FA-822F-1FDD9CD7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884-4B1E-4F14-AC3E-CF7B11C0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CA7-F874-4BC2-AD0E-1B3AC667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F26-7CAD-403D-B525-53648A63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61A3-E9E6-4BB0-9290-5BE3AFF8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8DD-85DA-456B-95EE-28600EB0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6B5D-1F81-4338-BA0F-BF75511F7707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985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95280" y="476280"/>
            <a:ext cx="2381400" cy="261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372360" y="404640"/>
            <a:ext cx="2160360" cy="2886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419640" y="4005360"/>
            <a:ext cx="1771560" cy="1771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3419640" y="981000"/>
            <a:ext cx="2304720" cy="2708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3591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4938840" y="37278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4919760" y="709164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2563920" y="90360"/>
            <a:ext cx="40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Θεοφάνης ο Κρής, Άγιος Μάμας (προστάτης των βοσκώ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http://vatopaidi.files.wordpress.com/2009/10/saint-seraphim-of-sarov-bear.jpg?w=445&amp;h=369"/>
          <p:cNvPicPr/>
          <p:nvPr/>
        </p:nvPicPr>
        <p:blipFill>
          <a:blip r:embed="rId1"/>
          <a:stretch/>
        </p:blipFill>
        <p:spPr>
          <a:xfrm>
            <a:off x="324000" y="1916280"/>
            <a:ext cx="3706560" cy="307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2.bp.blogspot.com/_86K2us7JvjQ/TR-l6SAD2yI/AAAAAAAAFIY/h0r3cEuuyr8/s1600/Serafeim_sarof.jpg+2.jp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162320" y="1484280"/>
            <a:ext cx="4802400" cy="41274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881600" y="374256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3971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900680" y="115398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3180240" y="90360"/>
            <a:ext cx="278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Ο Σεραφείμ του Σάρωφ και η αρκούδ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http://misha.pblogs.gr/files/f/294317-b_69.jpg"/>
          <p:cNvPicPr/>
          <p:nvPr/>
        </p:nvPicPr>
        <p:blipFill>
          <a:blip r:embed="rId1"/>
          <a:stretch/>
        </p:blipFill>
        <p:spPr>
          <a:xfrm>
            <a:off x="2700360" y="476280"/>
            <a:ext cx="389556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80000" cy="4452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3417120" y="38160"/>
            <a:ext cx="230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Ο Χριστός ως αμνός (πρόβατ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5113440" cy="4782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0" y="-1285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Άγιος Μακάριος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AdamAgiosNikolaosAnapsafas"/>
          <p:cNvPicPr/>
          <p:nvPr/>
        </p:nvPicPr>
        <p:blipFill>
          <a:blip r:embed="rId1"/>
          <a:stretch/>
        </p:blipFill>
        <p:spPr>
          <a:xfrm>
            <a:off x="900000" y="1628640"/>
            <a:ext cx="7454880" cy="3456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2894400" y="90360"/>
            <a:ext cx="33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Ο Αδάμ ονοματίζει τα ζώα στον παράδεισ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3 NOAH AND THE ARK1285"/>
          <p:cNvPicPr/>
          <p:nvPr/>
        </p:nvPicPr>
        <p:blipFill>
          <a:blip r:embed="rId1"/>
          <a:stretch/>
        </p:blipFill>
        <p:spPr>
          <a:xfrm>
            <a:off x="2556000" y="538200"/>
            <a:ext cx="3816360" cy="6170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4300560" y="90360"/>
            <a:ext cx="5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Νώ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5 NOAH AND ARK 1411 μινιατουρα"/>
          <p:cNvPicPr/>
          <p:nvPr/>
        </p:nvPicPr>
        <p:blipFill>
          <a:blip r:embed="rId1"/>
          <a:stretch/>
        </p:blipFill>
        <p:spPr>
          <a:xfrm>
            <a:off x="0" y="549360"/>
            <a:ext cx="4448160" cy="443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" descr="1846_Edward_Hicks_Noahs_Ark_small"/>
          <p:cNvPicPr/>
          <p:nvPr/>
        </p:nvPicPr>
        <p:blipFill>
          <a:blip r:embed="rId2"/>
          <a:stretch/>
        </p:blipFill>
        <p:spPr>
          <a:xfrm>
            <a:off x="4572000" y="1413000"/>
            <a:ext cx="4448160" cy="3533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4896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www.wwwebart.com/riverart/nadalian/paintedbody3/snak_fish_01_nadalian.jpg"/>
          <p:cNvPicPr/>
          <p:nvPr/>
        </p:nvPicPr>
        <p:blipFill>
          <a:blip r:embed="rId1"/>
          <a:stretch/>
        </p:blipFill>
        <p:spPr>
          <a:xfrm>
            <a:off x="250920" y="1628640"/>
            <a:ext cx="4324320" cy="324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" descr="http://www.wwwebart.com/riverart/nadalian/paintedbody3/snak_hands_02_nadalian.jpg"/>
          <p:cNvPicPr/>
          <p:nvPr/>
        </p:nvPicPr>
        <p:blipFill>
          <a:blip r:embed="rId2"/>
          <a:stretch/>
        </p:blipFill>
        <p:spPr>
          <a:xfrm>
            <a:off x="4643280" y="1628640"/>
            <a:ext cx="4324680" cy="3248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37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254760" y="90360"/>
            <a:ext cx="26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Για τις δραστηριότητες της Όλγα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www.wwwebart.com/riverart/nadalian/green_people/02_green_people.jpg"/>
          <p:cNvPicPr/>
          <p:nvPr/>
        </p:nvPicPr>
        <p:blipFill>
          <a:blip r:embed="rId1"/>
          <a:stretch/>
        </p:blipFill>
        <p:spPr>
          <a:xfrm>
            <a:off x="179280" y="1484280"/>
            <a:ext cx="4533840" cy="3403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" descr="http://www.wwwebart.com/riverart/paradise/festivals/persiangulf3/guzila_sinai2.jpg"/>
          <p:cNvPicPr/>
          <p:nvPr/>
        </p:nvPicPr>
        <p:blipFill>
          <a:blip r:embed="rId2"/>
          <a:stretch/>
        </p:blipFill>
        <p:spPr>
          <a:xfrm>
            <a:off x="4788000" y="1628640"/>
            <a:ext cx="4217760" cy="3168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441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7056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wwwebart.com/riverart/sandprints/goddess_sand_print_01.jpg"/>
          <p:cNvPicPr/>
          <p:nvPr/>
        </p:nvPicPr>
        <p:blipFill>
          <a:blip r:embed="rId1"/>
          <a:stretch/>
        </p:blipFill>
        <p:spPr>
          <a:xfrm>
            <a:off x="250920" y="1557360"/>
            <a:ext cx="4324320" cy="324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" descr="http://www.wwwebart.com/riverart/france/children/007.jpg"/>
          <p:cNvPicPr/>
          <p:nvPr/>
        </p:nvPicPr>
        <p:blipFill>
          <a:blip r:embed="rId2"/>
          <a:stretch/>
        </p:blipFill>
        <p:spPr>
          <a:xfrm>
            <a:off x="4643280" y="907920"/>
            <a:ext cx="3781440" cy="50389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37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www.wwwebart.com/riverart/south_korea/nadalian_03_newlife_stream_seoul_south_korea.jpg"/>
          <p:cNvPicPr/>
          <p:nvPr/>
        </p:nvPicPr>
        <p:blipFill>
          <a:blip r:embed="rId1"/>
          <a:stretch/>
        </p:blipFill>
        <p:spPr>
          <a:xfrm>
            <a:off x="1619280" y="333360"/>
            <a:ext cx="5276880" cy="3505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http://www.wwwebart.com/riverart/paradise/festivals/persiangulf/garbeg/garbage02s_environmetal_art.jpg"/>
          <p:cNvPicPr/>
          <p:nvPr/>
        </p:nvPicPr>
        <p:blipFill>
          <a:blip r:embed="rId2"/>
          <a:stretch/>
        </p:blipFill>
        <p:spPr>
          <a:xfrm>
            <a:off x="3492360" y="4076640"/>
            <a:ext cx="1886040" cy="25243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3962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www.wwwebart.com/riverart/paradise/festivals/persiangulf2/garbege/1garbege_installation_stude.jpg"/>
          <p:cNvPicPr/>
          <p:nvPr/>
        </p:nvPicPr>
        <p:blipFill>
          <a:blip r:embed="rId1"/>
          <a:stretch/>
        </p:blipFill>
        <p:spPr>
          <a:xfrm>
            <a:off x="2050920" y="115920"/>
            <a:ext cx="4857840" cy="3238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http://www.wwwebart.com/riverart/paradise/festivals/persiangulf2/garbege/7garbege_installation.jpg"/>
          <p:cNvPicPr/>
          <p:nvPr/>
        </p:nvPicPr>
        <p:blipFill>
          <a:blip r:embed="rId2"/>
          <a:stretch/>
        </p:blipFill>
        <p:spPr>
          <a:xfrm>
            <a:off x="2050920" y="3429000"/>
            <a:ext cx="4857840" cy="32385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6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www.wwwebart.com/multimedia/gardens/nadalian_behzad.JPG"/>
          <p:cNvPicPr/>
          <p:nvPr/>
        </p:nvPicPr>
        <p:blipFill>
          <a:blip r:embed="rId1"/>
          <a:stretch/>
        </p:blipFill>
        <p:spPr>
          <a:xfrm>
            <a:off x="1979640" y="189000"/>
            <a:ext cx="5305320" cy="3733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" descr="http://www.wwwebart.com/multimedia/nuclearenergy/images/nadalian_nucler_energy_08.jpg"/>
          <p:cNvPicPr/>
          <p:nvPr/>
        </p:nvPicPr>
        <p:blipFill>
          <a:blip r:embed="rId2"/>
          <a:stretch/>
        </p:blipFill>
        <p:spPr>
          <a:xfrm>
            <a:off x="2916360" y="3933720"/>
            <a:ext cx="3581280" cy="2664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www.wwwebart.com/riverart/iran/haraz/birds/nadalian_carved_stone_bird_08c.jpg"/>
          <p:cNvPicPr/>
          <p:nvPr/>
        </p:nvPicPr>
        <p:blipFill>
          <a:blip r:embed="rId1"/>
          <a:stretch/>
        </p:blipFill>
        <p:spPr>
          <a:xfrm>
            <a:off x="2124000" y="260280"/>
            <a:ext cx="4552920" cy="323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http://www.wwwebart.com/riverart/newlife/froge_01_new_life_nadalian.jpg"/>
          <p:cNvPicPr/>
          <p:nvPr/>
        </p:nvPicPr>
        <p:blipFill>
          <a:blip r:embed="rId2"/>
          <a:stretch/>
        </p:blipFill>
        <p:spPr>
          <a:xfrm>
            <a:off x="2124000" y="3429000"/>
            <a:ext cx="4565880" cy="3313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3695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8421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4341600" cy="3044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2843280" y="3257640"/>
            <a:ext cx="4321080" cy="3411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4248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268360" y="692280"/>
            <a:ext cx="4535640" cy="5040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3038760" y="90360"/>
            <a:ext cx="30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blo Picasso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anbino Con Colomb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19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50920" y="692280"/>
            <a:ext cx="4897440" cy="5473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238200" y="90360"/>
            <a:ext cx="266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tanley Spencer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t Francis an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411280" y="1197000"/>
            <a:ext cx="424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411280" y="476280"/>
            <a:ext cx="4681800" cy="56894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2878920" y="90360"/>
            <a:ext cx="33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bib Allah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Concourse of the Bird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Σούφι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9:58:37Z</dcterms:created>
  <dc:creator>marcia</dc:creator>
  <dc:description/>
  <dc:language>en-US</dc:language>
  <cp:lastModifiedBy>marcia</cp:lastModifiedBy>
  <dcterms:modified xsi:type="dcterms:W3CDTF">2011-05-04T10:17:23Z</dcterms:modified>
  <cp:revision>14</cp:revision>
  <dc:subject/>
  <dc:title>Διαφάνεια 1</dc:title>
</cp:coreProperties>
</file>